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679-B9BE-4D2C-BC7A-2D944775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EB8-C996-4E62-A5E3-28E0FCA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1ED-0E2B-4159-AB57-1E4AB37B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2A2-5BBF-458E-877C-1FCC6ED4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0B6-58E8-42BB-9D4C-1B52FD1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3A5-BD4D-4B58-B173-99A5D72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C87-08C4-453D-B085-BAADD82D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ADB-2285-4138-AE6B-F2887F8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E19-A29B-4771-92DD-29E294E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178-6EAA-4414-8972-35DD6091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E30-465B-4709-91F6-C8F9A7E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A42-B677-4DBF-92AB-435DAC6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CD0-6B44-426E-A553-7EA23582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orema lui Th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za geometr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a  VI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22400" y="54403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cu Io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3024360" cy="194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61440" y="299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3440" y="4508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9440" y="4581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6760" y="549360"/>
            <a:ext cx="462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 ABC un triunghi oarecar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386064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4005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42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56720" y="284040"/>
            <a:ext cx="23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’C’ ║ B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9800" y="1052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9080" y="33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7800" y="33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205000"/>
            <a:ext cx="4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20500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4520" y="5445000"/>
            <a:ext cx="215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      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2421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2560" y="421488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tun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8520" y="3571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565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43480" y="6087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eaz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’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┴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D ┴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M ┴ B’C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ş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CN ┴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57200" y="32130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74360" y="1695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8360" y="414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720" y="414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2997360"/>
            <a:ext cx="4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2781360"/>
            <a:ext cx="4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940360" y="2708280"/>
            <a:ext cx="1295640" cy="720720"/>
          </a:xfrm>
          <a:prstGeom prst="line">
            <a:avLst/>
          </a:prstGeom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372360" y="2781000"/>
            <a:ext cx="1295280" cy="647640"/>
          </a:xfrm>
          <a:prstGeom prst="line">
            <a:avLst/>
          </a:prstGeom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088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65640" y="22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9272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317080" y="3357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76360" y="3429000"/>
            <a:ext cx="863640" cy="0"/>
          </a:xfrm>
          <a:prstGeom prst="line">
            <a:avLst/>
          </a:prstGeom>
          <a:ln cap="rnd" w="93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40720" y="3429000"/>
            <a:ext cx="863640" cy="0"/>
          </a:xfrm>
          <a:prstGeom prst="line">
            <a:avLst/>
          </a:prstGeom>
          <a:ln w="93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5080" y="2852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45440" y="29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21080" y="3357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29440" y="3357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249228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8520" y="242100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12222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’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916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5440" y="1652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1844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10160" y="136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1413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1320" y="93348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98240" y="186840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349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440" y="2373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5440" y="1652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4880" y="14367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4880" y="18684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1560" y="17254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3080" y="429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7240" y="410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7440" y="4365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288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744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7440" y="378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4960" y="33814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B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2400" y="43894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B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744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2360" y="4743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4160" y="410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5040" y="38862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5760" y="43178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744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00480" y="402444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C’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C’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1440" y="15699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2040" y="1138320"/>
            <a:ext cx="12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360" y="156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7800" y="1353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59080" y="15699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3080" y="156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26760" y="11383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4680" y="981000"/>
            <a:ext cx="38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B’C’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’B’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880" y="333360"/>
            <a:ext cx="47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dreptunghiul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BCNM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BM ═ C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95800" y="2655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14680" y="22240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14680" y="272880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0520" y="2440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51800" y="2655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2160" y="21463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71040" y="2728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61960" y="2440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4520" y="2440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346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2880" y="3429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800" y="393372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 + 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980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9600" y="350028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005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5240" y="407664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 + 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3789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7800" y="3500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6880" y="4005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8360" y="3789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160" y="342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90880" y="40766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242100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 (1), (2), (3) 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60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dreptunghiul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CNM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BM ═ C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17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2240" y="1341360"/>
            <a:ext cx="12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8892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8360" y="1557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7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33640" y="17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6960" y="1341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05240" y="1184400"/>
            <a:ext cx="38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B’C’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’B’  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6165720"/>
            <a:ext cx="58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84360" y="2781000"/>
            <a:ext cx="266400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781360"/>
            <a:ext cx="324000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4724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484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388360" y="450828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90000" y="234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34000" y="5799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84920" y="579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29640" y="41432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74000" y="41432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60560" y="4214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442360" y="4214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 (1), (2), (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10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30520" y="62064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30520" y="112536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6360" y="836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052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38000" y="5428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6520" y="1125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800" y="836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83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2200" y="18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2852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8880" y="227664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6520" y="2852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’ + 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5800" y="263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6880" y="234936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2852640"/>
            <a:ext cx="19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5600" y="292428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’ + 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59480" y="2558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3480" y="4430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47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34360" y="40244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2520" y="46767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720" y="4508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2160" y="4221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4160" y="4797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11:06Z</dcterms:created>
  <dc:creator>xxx</dc:creator>
  <dc:description/>
  <dc:language>en-US</dc:language>
  <cp:lastModifiedBy>xxx</cp:lastModifiedBy>
  <dcterms:modified xsi:type="dcterms:W3CDTF">2011-02-24T21:15:01Z</dcterms:modified>
  <cp:revision>4</cp:revision>
  <dc:subject/>
  <dc:title>Teorema lui Thales</dc:title>
</cp:coreProperties>
</file>